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55C88-E4C4-46BA-87D8-8D9244E03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9DC76-705F-4564-93C4-34FBE2D1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A2E32-EA0C-4D5A-8741-934AC1824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A60D0-C34E-4F59-BDED-75490C92C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1D85-266B-482E-8783-480E8245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7300-7B79-45DC-BBF0-1B3CAA94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486A-0E88-490B-A1AB-7EE114E1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881F-A772-473F-AFA3-F8490CF1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C3A9-D780-4A86-9690-CD42CA3A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1BE2-D8C3-47E8-9E7A-E66B707E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CBA0-8BAD-49E4-92FD-656AD5C6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7F483-AA18-4F63-BC5D-94CD3C4F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7340-977E-4941-88F6-6948658B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5BAA-64A9-4E42-A4A9-45554BAE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5E7A-56EB-4D68-84D8-E8A5E3B7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15D3-B643-43F2-9303-29E62CC98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D14D-C901-45C4-AFBA-DC09E1BE2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CAB0A-5B33-48B8-9F64-4B5A8932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F3E75-71F3-46DE-BB9A-DD9B73F1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BD484-F87A-43C1-A325-11E7922D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B09E1-F77A-423A-9E0A-FC5F74BD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B0631-EFE7-4AC3-A4FC-E545AAE0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BDDC1-9C3C-4D93-BEF3-EC71F399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32A64-F677-404D-BF93-196F4591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E966-7BAB-497E-BDD0-F775BA271B26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a9a8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88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8a9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8a9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75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8a9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678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75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75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6788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5876b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67885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587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6788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a9a8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678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7587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8a9a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8a9a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678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7587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8a9a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678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7587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8a9a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7587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846D-911A-4166-8539-3BA2928DDF9B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78856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75876b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7885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32767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Knowledge in Context – Communities of Practi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0" y="2057400"/>
            <a:ext cx="2209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Session 4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Session Overview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788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Part 1:  Definition of a Community of Practic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788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Part 2:  Value of Communities of Practic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788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Part 3:  Structure of Communities of Practic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788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Part 4:  Life Cycles of Communities of Practic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788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Part 5:  Cultivating Communities of Practic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rt 1:  What is a Community of Pract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00"/>
                </a:solidFill>
                <a:latin typeface="Trebuchet MS"/>
              </a:rPr>
              <a:t>What is a CoP?</a:t>
            </a:r>
            <a:endParaRPr b="0" lang="en-US" sz="4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788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Arial"/>
              </a:rPr>
              <a:t>Communities of Practice are self-organizing groups of people who share a concern, a set of problems, or a passion about a topic, and who deepen their knowledge and expertise in this area by interacting on an ongoing basis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788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Ps are defined by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5876b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00"/>
                </a:solidFill>
                <a:latin typeface="Arial"/>
              </a:rPr>
              <a:t>joint enterprise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-- as understood and continually renegotiated by its members (what it is about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5876b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e mutual engagement that bind members together into a social entity (how it works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5876b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e </a:t>
            </a:r>
            <a:r>
              <a:rPr b="0" i="1" lang="en-US" sz="2000" spc="-1" strike="noStrike">
                <a:solidFill>
                  <a:srgbClr val="003300"/>
                </a:solidFill>
                <a:latin typeface="Arial"/>
              </a:rPr>
              <a:t>shared repertoire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of communal resources (routines, sensibilities, artifacts, vocabulary, styles, etc.) that members have developed over time (its capabilities)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00"/>
                </a:solidFill>
                <a:latin typeface="Trebuchet MS"/>
              </a:rPr>
              <a:t>What is a CoP?</a:t>
            </a:r>
            <a:endParaRPr b="0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788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</a:rPr>
              <a:t>CoPs are…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75876b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</a:rPr>
              <a:t>Everywhere because they are grounded in practice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75876b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</a:rPr>
              <a:t>Timeless – they have always existed 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75876b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</a:rPr>
              <a:t>Thrive on different levels of participation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75876b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</a:rPr>
              <a:t>Of various sizes (big or small)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75876b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</a:rPr>
              <a:t>Collocated and distributed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75876b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</a:rPr>
              <a:t>Spontaneously or intentionally created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75876b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</a:rPr>
              <a:t>Long-lived and short-lived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75876b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</a:rPr>
              <a:t>Unrecognized and also institutionalized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Points to Ponder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788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Describe the communities of practice of which you are a member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788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What was the factor that launched this community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788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What is the practice around which it is organized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788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What role do you play in this community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02:26:40Z</dcterms:created>
  <dc:creator>clifford bedford</dc:creator>
  <dc:description/>
  <dc:language>en-US</dc:language>
  <cp:lastModifiedBy>Valerie Kelly</cp:lastModifiedBy>
  <dcterms:modified xsi:type="dcterms:W3CDTF">2007-07-26T18:16:27Z</dcterms:modified>
  <cp:revision>23</cp:revision>
  <dc:subject/>
  <dc:title>Communities of Practice Sta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Path">
    <vt:lpwstr>Session4_Part1_2007</vt:lpwstr>
  </property>
</Properties>
</file>