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22B9-8843-4665-8D43-F029253D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B01C-27ED-4D3E-9D47-4F3946C0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37F6-A55F-489F-9AE1-0FF1DECE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7598-B56A-43AF-A8B7-C7ED1D93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A3DC-D94F-4CE2-BD18-BFC3B370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F182-5839-4101-B5EE-987ADB9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B48D-902D-45B7-AD2E-E9F77A90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7179-1425-4BEC-891C-189E0FC3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6903-9670-4873-B505-6CAA91C7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220B-86EA-48B4-BFC4-85653EF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1E83-7834-42E0-8309-D8BD12B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A8D9-4E84-4C48-8841-65FDFD1F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9A61-E636-4108-81FA-3F54279B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9AAB-97D6-4385-9974-4B46A45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9B16-1A69-4FBE-8A4F-0AA8374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B2B-075F-4C8C-9D1D-762FBCBB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76F6-EE56-44A6-A536-C76B89B4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915E-D379-481C-841B-A3F18960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E5C2-3648-4BDB-B9A2-82722B4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93BF-3CC0-44BE-A6E6-9036598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C020-7ACC-478F-A743-416A590C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353E-E48D-428F-AE17-7B3444D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7630-46EF-4E99-A75E-5CAF2EB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86DD-8863-4506-833F-D283027A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C90B-17CA-4202-8263-A0CD5126EA8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a9a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88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8a9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678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5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7885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587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788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a9a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678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678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678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8a9a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5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2E11-6C51-4312-8009-BAA5BC75312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7885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5876b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7885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32767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nowledge in Context – Communities of Practi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Session 4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ession Overview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1:  Definition of a Community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2:  Value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3:  Structure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4:  Life Cycles of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rt 5:  Cultivating Communities of Practi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1:  What is a Community of Pract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rebuchet MS"/>
              </a:rPr>
              <a:t>What is a CoP?</a:t>
            </a:r>
            <a:endParaRPr b="0" lang="en-US" sz="4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Communities of Practice are self-organizing groups of people who share a concern, a set of problems, or a passion about a topic, and who deepen their knowledge and expertise in this area by interacting on an ongoing basis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Ps are defined by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joint enterpris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- as understood and continually renegotiated by its members (what it is about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e mutual engagement that bind members together into a social entity (how it works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shared repertoir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of communal resources (routines, sensibilities, artifacts, vocabulary, styles, etc.) that members have developed over time (its capabilities)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rebuchet MS"/>
              </a:rPr>
              <a:t>What is a CoP?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CoPs are…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Everywhere because they are grounded in practice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imeless – they have always existed 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rive on different levels of participation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Of various sizes (big or small)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Collocated and distribut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pontaneously or intentionally creat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Long-lived and short-liv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5876b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Unrecognized and also institutionalized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Points to Ponder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escribe the communities of practice of which you are a member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was the factor that launched this community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is the practice around which it is organized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88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role do you play in this community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2:26:40Z</dcterms:created>
  <dc:creator>clifford bedford</dc:creator>
  <dc:description/>
  <dc:language>en-US</dc:language>
  <cp:lastModifiedBy>Valerie Kelly</cp:lastModifiedBy>
  <dcterms:modified xsi:type="dcterms:W3CDTF">2007-07-26T18:16:27Z</dcterms:modified>
  <cp:revision>23</cp:revision>
  <dc:subject/>
  <dc:title>Communities of Practice St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Session4_Part1_2007</vt:lpwstr>
  </property>
</Properties>
</file>